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5AF-B925-48C9-B463-9D30AB2B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A6B-17AC-41F9-A82F-EE77506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758-C7E8-4B2A-8B46-0F9EACE5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885-DD15-45D2-B926-F4DC29AD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868-0F87-49FC-8640-C0625BBC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39B-25AD-4C27-AB4B-91F8356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1462-176F-4775-80FC-A4ED6D10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A98B-6689-4D44-B270-47E935C9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102-BA46-426A-A009-DC9117D4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37C-1495-4337-94D7-5547B99B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E5BE-308E-4FFD-8EE2-8F4738E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A22-5116-4B20-8EFB-56584E3D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A7BB-CC44-4B9E-BFB8-5919564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50E-7A5F-418D-89E1-6164F837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EDC-1998-4D5F-AB79-1A1620B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07AD-F697-40ED-B368-4747AD34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F64D-92EF-47FD-8A6A-602CE48D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7AE-E28D-434F-AD75-CD8789E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C7A-C9E0-4734-A7FB-A0555BA7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739-B887-479D-B221-7BA4E77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75D-4716-47FA-8076-8193509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99D-1797-4825-9988-559ECB9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3D3-A8EE-4CE3-9F30-33A5ECB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6D8-C9F1-4575-A0BE-97724DB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1150-3B3B-42DC-89B6-B366E8D122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7DC-F5B5-49E5-BA75-6FFA468A04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5—Characteristics of 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7920" y="579276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at we know what acids are, how do they a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ions of Concentration &amp; Streng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61000" y="2216160"/>
            <a:ext cx="249552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8320" y="2216160"/>
            <a:ext cx="22352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8320" y="2873520"/>
            <a:ext cx="2235240" cy="15825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t of acid added &amp; most di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1000" y="2873520"/>
            <a:ext cx="2495520" cy="15825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ch acid added, but most of what’s there di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13000" y="4751280"/>
            <a:ext cx="2235240" cy="168588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t of acid added, but most stay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65680" y="4751280"/>
            <a:ext cx="2495520" cy="168588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much acid added and most of what is there stay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9800" y="2855880"/>
            <a:ext cx="2235240" cy="1546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5160" y="4754520"/>
            <a:ext cx="2235240" cy="1654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144144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same ideas apply to bases as well (concentration and str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think all acids are dangerous and all bases are mo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Vinegar is an acid we eat…some of them are saf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Sodium hydroxide is a very caustic base…not all of them are less harmful than acid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33ff"/>
                </a:solidFill>
                <a:latin typeface="Arial"/>
              </a:rPr>
              <a:t>The stronger and acid or base is (and the more concentrated it is), the more dangerous it is for 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cale to measure the acidity of 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13080" y="3368520"/>
            <a:ext cx="8326080" cy="1714320"/>
            <a:chOff x="613080" y="3368520"/>
            <a:chExt cx="8326080" cy="1714320"/>
          </a:xfrm>
        </p:grpSpPr>
        <p:sp>
          <p:nvSpPr>
            <p:cNvPr id="294" name=""/>
            <p:cNvSpPr/>
            <p:nvPr/>
          </p:nvSpPr>
          <p:spPr>
            <a:xfrm>
              <a:off x="853920" y="3368520"/>
              <a:ext cx="7604280" cy="31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8520" y="372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61560" y="3722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3080" y="4440240"/>
              <a:ext cx="145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ly aci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51640" y="4440240"/>
              <a:ext cx="14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y basic (not acid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25400" y="44402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5040" y="3722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653480" y="553896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 will give more detail about how pH is calcu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1600200"/>
            <a:ext cx="83329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s change color based on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Liquid indicators – various indicators change colors at different pH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Universal indicator – a combination of liquid indicators to produce a “rainbow” changing colors at several pH’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Paper with a liquid indicator on it (Litmus paper or pH pap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meters or pH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33ff"/>
                </a:solidFill>
                <a:latin typeface="Arial"/>
              </a:rPr>
              <a:t>Electronically determine pH and give a read-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measure 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mon pH indic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ndicators" descr=""/>
          <p:cNvPicPr/>
          <p:nvPr/>
        </p:nvPicPr>
        <p:blipFill>
          <a:blip r:embed="rId1"/>
          <a:stretch/>
        </p:blipFill>
        <p:spPr>
          <a:xfrm>
            <a:off x="909720" y="1407960"/>
            <a:ext cx="6143400" cy="4586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955120" y="5897520"/>
            <a:ext cx="29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icture © 1998 David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55640" y="2355840"/>
          <a:ext cx="3375000" cy="3684600"/>
        </p:xfrm>
        <a:graphic>
          <a:graphicData uri="http://schemas.openxmlformats.org/drawingml/2006/table">
            <a:tbl>
              <a:tblPr/>
              <a:tblGrid>
                <a:gridCol w="259704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SUB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2000" spc="-1" strike="noStrike">
                          <a:solidFill>
                            <a:srgbClr val="000099"/>
                          </a:solidFill>
                          <a:latin typeface="Gill Sans MT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HC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omach cont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inega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da p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p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mpkin pul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re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135400" y="2346480"/>
          <a:ext cx="3414960" cy="3717720"/>
        </p:xfrm>
        <a:graphic>
          <a:graphicData uri="http://schemas.openxmlformats.org/drawingml/2006/table">
            <a:tbl>
              <a:tblPr/>
              <a:tblGrid>
                <a:gridCol w="2606760"/>
                <a:gridCol w="8082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testinal cont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il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r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i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aliv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lo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.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gg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.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NH</a:t>
                      </a:r>
                      <a:r>
                        <a:rPr b="0" lang="en" sz="2100" spc="-1" strike="noStrike" baseline="-30000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(aq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.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M NaO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racteristics of Acids &amp; Ba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7216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61920" y="2216160"/>
            <a:ext cx="3592440" cy="511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192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ydronium ion)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72160" y="2873520"/>
            <a:ext cx="3592440" cy="78876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ydroxide ion)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696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s s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76840" y="37828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s B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4792680"/>
            <a:ext cx="359280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 with active metals to form hydrogen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53080" y="4792680"/>
            <a:ext cx="3592440" cy="878040"/>
          </a:xfrm>
          <a:prstGeom prst="roundRect">
            <a:avLst>
              <a:gd name="adj" fmla="val 16667"/>
            </a:avLst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ls slipp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versus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82240" y="2790720"/>
            <a:ext cx="967680" cy="1214280"/>
            <a:chOff x="2082240" y="2790720"/>
            <a:chExt cx="967680" cy="1214280"/>
          </a:xfrm>
        </p:grpSpPr>
        <p:sp>
          <p:nvSpPr>
            <p:cNvPr id="109" name=""/>
            <p:cNvSpPr/>
            <p:nvPr/>
          </p:nvSpPr>
          <p:spPr>
            <a:xfrm rot="255600">
              <a:off x="2095560" y="3493080"/>
              <a:ext cx="390240" cy="371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55600">
              <a:off x="2301840" y="3124800"/>
              <a:ext cx="574560" cy="526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55600">
              <a:off x="2646720" y="3533760"/>
              <a:ext cx="389880" cy="371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55600">
              <a:off x="2255760" y="372312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55600">
              <a:off x="2361240" y="279684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884200" y="3003480"/>
            <a:ext cx="1027800" cy="719280"/>
            <a:chOff x="5884200" y="3003480"/>
            <a:chExt cx="1027800" cy="719280"/>
          </a:xfrm>
        </p:grpSpPr>
        <p:sp>
          <p:nvSpPr>
            <p:cNvPr id="115" name=""/>
            <p:cNvSpPr/>
            <p:nvPr/>
          </p:nvSpPr>
          <p:spPr>
            <a:xfrm rot="255600">
              <a:off x="5897520" y="3200040"/>
              <a:ext cx="38916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62560" y="3110040"/>
              <a:ext cx="649440" cy="612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2320" y="30034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94200" y="42037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65000" y="42465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8760" y="47624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cation with some 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18542 -0.06227 E">
                                      <p:cBhvr>
                                        <p:cTn id="7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1967 -3.7037E-007 E">
                                      <p:cBhvr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55600">
            <a:off x="4155840" y="2782800"/>
            <a:ext cx="18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77560" y="2759400"/>
            <a:ext cx="968040" cy="1231560"/>
            <a:chOff x="3877560" y="2759400"/>
            <a:chExt cx="968040" cy="1231560"/>
          </a:xfrm>
        </p:grpSpPr>
        <p:sp>
          <p:nvSpPr>
            <p:cNvPr id="124" name=""/>
            <p:cNvSpPr/>
            <p:nvPr/>
          </p:nvSpPr>
          <p:spPr>
            <a:xfrm rot="255600">
              <a:off x="3890880" y="347940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55600">
              <a:off x="4096800" y="311148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5600">
              <a:off x="4441680" y="351900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55600">
              <a:off x="4051080" y="37098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55600">
              <a:off x="4199040" y="277308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64080" y="2576520"/>
            <a:ext cx="649440" cy="719280"/>
            <a:chOff x="4564080" y="2576520"/>
            <a:chExt cx="649440" cy="719280"/>
          </a:xfrm>
        </p:grpSpPr>
        <p:sp>
          <p:nvSpPr>
            <p:cNvPr id="130" name=""/>
            <p:cNvSpPr/>
            <p:nvPr/>
          </p:nvSpPr>
          <p:spPr>
            <a:xfrm>
              <a:off x="4564080" y="2682720"/>
              <a:ext cx="64944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3480" y="257652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01880" y="2789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view of how acids produce 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94800" y="2749680"/>
            <a:ext cx="968040" cy="1231560"/>
            <a:chOff x="1594800" y="2749680"/>
            <a:chExt cx="968040" cy="1231560"/>
          </a:xfrm>
        </p:grpSpPr>
        <p:sp>
          <p:nvSpPr>
            <p:cNvPr id="135" name=""/>
            <p:cNvSpPr/>
            <p:nvPr/>
          </p:nvSpPr>
          <p:spPr>
            <a:xfrm rot="255600">
              <a:off x="1608120" y="3469680"/>
              <a:ext cx="390600" cy="371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5600">
              <a:off x="1814040" y="3101760"/>
              <a:ext cx="574920" cy="525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5600">
              <a:off x="2158920" y="3509280"/>
              <a:ext cx="390600" cy="3715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5600">
              <a:off x="1768320" y="370008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55600">
              <a:off x="1916280" y="2763360"/>
              <a:ext cx="388800" cy="3715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419120" y="27795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37480" y="2581200"/>
            <a:ext cx="649080" cy="719280"/>
            <a:chOff x="6837480" y="2581200"/>
            <a:chExt cx="649080" cy="719280"/>
          </a:xfrm>
        </p:grpSpPr>
        <p:sp>
          <p:nvSpPr>
            <p:cNvPr id="142" name=""/>
            <p:cNvSpPr/>
            <p:nvPr/>
          </p:nvSpPr>
          <p:spPr>
            <a:xfrm>
              <a:off x="6837480" y="2687400"/>
              <a:ext cx="649080" cy="613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86520" y="25812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191600" y="4187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9080" y="4246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ong versus Weak Ac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27160" y="3463560"/>
            <a:ext cx="1063800" cy="801720"/>
            <a:chOff x="1127160" y="3463560"/>
            <a:chExt cx="1063800" cy="801720"/>
          </a:xfrm>
        </p:grpSpPr>
        <p:grpSp>
          <p:nvGrpSpPr>
            <p:cNvPr id="148" name=""/>
            <p:cNvGrpSpPr/>
            <p:nvPr/>
          </p:nvGrpSpPr>
          <p:grpSpPr>
            <a:xfrm>
              <a:off x="1480320" y="3463560"/>
              <a:ext cx="710640" cy="711360"/>
              <a:chOff x="1480320" y="3463560"/>
              <a:chExt cx="710640" cy="711360"/>
            </a:xfrm>
          </p:grpSpPr>
          <p:sp>
            <p:nvSpPr>
              <p:cNvPr id="149" name=""/>
              <p:cNvSpPr/>
              <p:nvPr/>
            </p:nvSpPr>
            <p:spPr>
              <a:xfrm rot="13682400">
                <a:off x="1883520" y="3790800"/>
                <a:ext cx="258840" cy="2458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3682400">
                <a:off x="1546560" y="3741840"/>
                <a:ext cx="380880" cy="3492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3682400">
                <a:off x="1638720" y="3518640"/>
                <a:ext cx="258840" cy="2458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rot="13682400">
              <a:off x="1416600" y="3963600"/>
              <a:ext cx="258840" cy="246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3426800">
              <a:off x="1202040" y="38401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40960" y="2188800"/>
            <a:ext cx="654480" cy="942480"/>
            <a:chOff x="1740960" y="2188800"/>
            <a:chExt cx="654480" cy="942480"/>
          </a:xfrm>
        </p:grpSpPr>
        <p:grpSp>
          <p:nvGrpSpPr>
            <p:cNvPr id="155" name=""/>
            <p:cNvGrpSpPr/>
            <p:nvPr/>
          </p:nvGrpSpPr>
          <p:grpSpPr>
            <a:xfrm>
              <a:off x="1740960" y="2188800"/>
              <a:ext cx="654480" cy="573480"/>
              <a:chOff x="1740960" y="2188800"/>
              <a:chExt cx="654480" cy="573480"/>
            </a:xfrm>
          </p:grpSpPr>
          <p:sp>
            <p:nvSpPr>
              <p:cNvPr id="156" name=""/>
              <p:cNvSpPr/>
              <p:nvPr/>
            </p:nvSpPr>
            <p:spPr>
              <a:xfrm rot="10285200">
                <a:off x="2119680" y="2206440"/>
                <a:ext cx="258840" cy="2458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285200">
                <a:off x="1908720" y="2386440"/>
                <a:ext cx="380880" cy="349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0285200">
                <a:off x="1757880" y="2261160"/>
                <a:ext cx="258840" cy="2458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rot="10285200">
              <a:off x="2007360" y="2691000"/>
              <a:ext cx="258840" cy="2462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029600">
              <a:off x="1815120" y="27648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292840" y="3852720"/>
            <a:ext cx="699480" cy="853920"/>
            <a:chOff x="2292840" y="3852720"/>
            <a:chExt cx="699480" cy="853920"/>
          </a:xfrm>
        </p:grpSpPr>
        <p:grpSp>
          <p:nvGrpSpPr>
            <p:cNvPr id="162" name=""/>
            <p:cNvGrpSpPr/>
            <p:nvPr/>
          </p:nvGrpSpPr>
          <p:grpSpPr>
            <a:xfrm>
              <a:off x="2292840" y="4166280"/>
              <a:ext cx="641520" cy="540360"/>
              <a:chOff x="2292840" y="4166280"/>
              <a:chExt cx="641520" cy="540360"/>
            </a:xfrm>
          </p:grpSpPr>
          <p:sp>
            <p:nvSpPr>
              <p:cNvPr id="163" name=""/>
              <p:cNvSpPr/>
              <p:nvPr/>
            </p:nvSpPr>
            <p:spPr>
              <a:xfrm rot="255600">
                <a:off x="2301480" y="4424040"/>
                <a:ext cx="258840" cy="2458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55600">
                <a:off x="2437920" y="4179600"/>
                <a:ext cx="380880" cy="3492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55600">
                <a:off x="2666520" y="4451040"/>
                <a:ext cx="258840" cy="24588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rot="255600">
              <a:off x="2518920" y="3976200"/>
              <a:ext cx="258840" cy="2462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92800" y="3852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942840" y="2176560"/>
            <a:ext cx="432000" cy="406440"/>
            <a:chOff x="942840" y="2176560"/>
            <a:chExt cx="432000" cy="406440"/>
          </a:xfrm>
        </p:grpSpPr>
        <p:sp>
          <p:nvSpPr>
            <p:cNvPr id="169" name=""/>
            <p:cNvSpPr/>
            <p:nvPr/>
          </p:nvSpPr>
          <p:spPr>
            <a:xfrm>
              <a:off x="942840" y="2176560"/>
              <a:ext cx="432000" cy="40644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3320" y="21780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200240" y="4457880"/>
            <a:ext cx="431640" cy="406080"/>
            <a:chOff x="1200240" y="4457880"/>
            <a:chExt cx="431640" cy="406080"/>
          </a:xfrm>
        </p:grpSpPr>
        <p:sp>
          <p:nvSpPr>
            <p:cNvPr id="172" name=""/>
            <p:cNvSpPr/>
            <p:nvPr/>
          </p:nvSpPr>
          <p:spPr>
            <a:xfrm>
              <a:off x="1200240" y="4457880"/>
              <a:ext cx="431640" cy="4060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0000" y="44589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57680" y="2379600"/>
            <a:ext cx="431640" cy="406440"/>
            <a:chOff x="2857680" y="2379600"/>
            <a:chExt cx="431640" cy="406440"/>
          </a:xfrm>
        </p:grpSpPr>
        <p:sp>
          <p:nvSpPr>
            <p:cNvPr id="175" name=""/>
            <p:cNvSpPr/>
            <p:nvPr/>
          </p:nvSpPr>
          <p:spPr>
            <a:xfrm>
              <a:off x="2857680" y="2379600"/>
              <a:ext cx="431640" cy="40644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7440" y="2381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86520" y="2689920"/>
            <a:ext cx="597960" cy="662040"/>
            <a:chOff x="3386520" y="2689920"/>
            <a:chExt cx="597960" cy="662040"/>
          </a:xfrm>
        </p:grpSpPr>
        <p:sp>
          <p:nvSpPr>
            <p:cNvPr id="178" name=""/>
            <p:cNvSpPr/>
            <p:nvPr/>
          </p:nvSpPr>
          <p:spPr>
            <a:xfrm rot="6122400">
              <a:off x="3480120" y="2718720"/>
              <a:ext cx="258840" cy="2458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122400">
              <a:off x="3583440" y="2889000"/>
              <a:ext cx="380880" cy="34920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6122400">
              <a:off x="3404160" y="3076560"/>
              <a:ext cx="258840" cy="2458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880920" y="2939400"/>
            <a:ext cx="593280" cy="660960"/>
            <a:chOff x="880920" y="2939400"/>
            <a:chExt cx="593280" cy="660960"/>
          </a:xfrm>
        </p:grpSpPr>
        <p:sp>
          <p:nvSpPr>
            <p:cNvPr id="182" name=""/>
            <p:cNvSpPr/>
            <p:nvPr/>
          </p:nvSpPr>
          <p:spPr>
            <a:xfrm rot="6080400">
              <a:off x="968760" y="2967120"/>
              <a:ext cx="258840" cy="2458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6080400">
              <a:off x="1074960" y="3135600"/>
              <a:ext cx="380880" cy="34920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080400">
              <a:off x="897120" y="3326040"/>
              <a:ext cx="258840" cy="2458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58160" y="3228840"/>
            <a:ext cx="680400" cy="406440"/>
            <a:chOff x="2558160" y="3228840"/>
            <a:chExt cx="680400" cy="406440"/>
          </a:xfrm>
        </p:grpSpPr>
        <p:sp>
          <p:nvSpPr>
            <p:cNvPr id="186" name=""/>
            <p:cNvSpPr/>
            <p:nvPr/>
          </p:nvSpPr>
          <p:spPr>
            <a:xfrm>
              <a:off x="2806920" y="3228840"/>
              <a:ext cx="431640" cy="40644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55600">
              <a:off x="2566800" y="3320640"/>
              <a:ext cx="258840" cy="2458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73280" y="2038320"/>
            <a:ext cx="3279600" cy="288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2640" y="5019840"/>
            <a:ext cx="3240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trong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st of the acid molecules have donated the H</a:t>
            </a:r>
            <a:r>
              <a:rPr b="0" lang="en-US" sz="1800" spc="-1" strike="noStrike" baseline="30000">
                <a:solidFill>
                  <a:srgbClr val="80808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to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08440" y="209376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ydronium ion – anion pair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24280" y="376380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tact acid molecule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4000" y="2984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85160" y="46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500" fill="hold"/>
                                        <p:tgtEl>
                                          <p:spTgt spid="1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ong versus Weak Ac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821920" y="1992240"/>
            <a:ext cx="699480" cy="853920"/>
            <a:chOff x="5821920" y="1992240"/>
            <a:chExt cx="699480" cy="853920"/>
          </a:xfrm>
        </p:grpSpPr>
        <p:grpSp>
          <p:nvGrpSpPr>
            <p:cNvPr id="196" name=""/>
            <p:cNvGrpSpPr/>
            <p:nvPr/>
          </p:nvGrpSpPr>
          <p:grpSpPr>
            <a:xfrm>
              <a:off x="5821920" y="2305800"/>
              <a:ext cx="641520" cy="540360"/>
              <a:chOff x="5821920" y="2305800"/>
              <a:chExt cx="641520" cy="540360"/>
            </a:xfrm>
          </p:grpSpPr>
          <p:sp>
            <p:nvSpPr>
              <p:cNvPr id="197" name=""/>
              <p:cNvSpPr/>
              <p:nvPr/>
            </p:nvSpPr>
            <p:spPr>
              <a:xfrm rot="255600">
                <a:off x="5830560" y="2563560"/>
                <a:ext cx="258840" cy="2458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55600">
                <a:off x="5967000" y="2319120"/>
                <a:ext cx="380880" cy="3492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f5db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55600">
                <a:off x="6195600" y="2590560"/>
                <a:ext cx="258840" cy="2458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d0d7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55600">
              <a:off x="6048000" y="2115720"/>
              <a:ext cx="258840" cy="246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21880" y="19922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27920" y="3708360"/>
            <a:ext cx="431640" cy="406440"/>
            <a:chOff x="6127920" y="3708360"/>
            <a:chExt cx="431640" cy="406440"/>
          </a:xfrm>
        </p:grpSpPr>
        <p:sp>
          <p:nvSpPr>
            <p:cNvPr id="203" name=""/>
            <p:cNvSpPr/>
            <p:nvPr/>
          </p:nvSpPr>
          <p:spPr>
            <a:xfrm>
              <a:off x="6127920" y="3708360"/>
              <a:ext cx="431640" cy="406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87680" y="3709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746480" y="2084400"/>
            <a:ext cx="712080" cy="712440"/>
            <a:chOff x="7746480" y="2084400"/>
            <a:chExt cx="712080" cy="712440"/>
          </a:xfrm>
        </p:grpSpPr>
        <p:sp>
          <p:nvSpPr>
            <p:cNvPr id="206" name=""/>
            <p:cNvSpPr/>
            <p:nvPr/>
          </p:nvSpPr>
          <p:spPr>
            <a:xfrm rot="13552800">
              <a:off x="8150760" y="2402640"/>
              <a:ext cx="258840" cy="245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3552800">
              <a:off x="7813800" y="2363760"/>
              <a:ext cx="380880" cy="34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3552800">
              <a:off x="7895880" y="2139840"/>
              <a:ext cx="258840" cy="2458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402960" y="2786760"/>
            <a:ext cx="676800" cy="677880"/>
            <a:chOff x="6402960" y="2786760"/>
            <a:chExt cx="676800" cy="677880"/>
          </a:xfrm>
        </p:grpSpPr>
        <p:sp>
          <p:nvSpPr>
            <p:cNvPr id="210" name=""/>
            <p:cNvSpPr/>
            <p:nvPr/>
          </p:nvSpPr>
          <p:spPr>
            <a:xfrm rot="12420600">
              <a:off x="6779160" y="2998080"/>
              <a:ext cx="258840" cy="2458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420600">
              <a:off x="6461280" y="3047760"/>
              <a:ext cx="380880" cy="349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2420600">
              <a:off x="6452640" y="2831760"/>
              <a:ext cx="258840" cy="2458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695000" y="3159000"/>
            <a:ext cx="680400" cy="406440"/>
            <a:chOff x="7695000" y="3159000"/>
            <a:chExt cx="680400" cy="406440"/>
          </a:xfrm>
        </p:grpSpPr>
        <p:sp>
          <p:nvSpPr>
            <p:cNvPr id="214" name=""/>
            <p:cNvSpPr/>
            <p:nvPr/>
          </p:nvSpPr>
          <p:spPr>
            <a:xfrm>
              <a:off x="7943760" y="3159000"/>
              <a:ext cx="431640" cy="40644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55600">
              <a:off x="7703640" y="3250800"/>
              <a:ext cx="258840" cy="2458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907680" y="2462040"/>
            <a:ext cx="680400" cy="406440"/>
            <a:chOff x="6907680" y="2462040"/>
            <a:chExt cx="680400" cy="406440"/>
          </a:xfrm>
        </p:grpSpPr>
        <p:sp>
          <p:nvSpPr>
            <p:cNvPr id="217" name=""/>
            <p:cNvSpPr/>
            <p:nvPr/>
          </p:nvSpPr>
          <p:spPr>
            <a:xfrm>
              <a:off x="7156440" y="2462040"/>
              <a:ext cx="431640" cy="40644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55600">
              <a:off x="6916320" y="2553840"/>
              <a:ext cx="258840" cy="24588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710760" y="3481560"/>
            <a:ext cx="680400" cy="406080"/>
            <a:chOff x="6710760" y="3481560"/>
            <a:chExt cx="680400" cy="406080"/>
          </a:xfrm>
        </p:grpSpPr>
        <p:sp>
          <p:nvSpPr>
            <p:cNvPr id="220" name=""/>
            <p:cNvSpPr/>
            <p:nvPr/>
          </p:nvSpPr>
          <p:spPr>
            <a:xfrm>
              <a:off x="6959520" y="3481560"/>
              <a:ext cx="431640" cy="406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def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55600">
              <a:off x="6719400" y="3573000"/>
              <a:ext cx="258840" cy="24552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543800" y="3916800"/>
            <a:ext cx="573840" cy="654840"/>
            <a:chOff x="7543800" y="3916800"/>
            <a:chExt cx="573840" cy="654840"/>
          </a:xfrm>
        </p:grpSpPr>
        <p:sp>
          <p:nvSpPr>
            <p:cNvPr id="223" name=""/>
            <p:cNvSpPr/>
            <p:nvPr/>
          </p:nvSpPr>
          <p:spPr>
            <a:xfrm rot="4884000">
              <a:off x="7554960" y="3940200"/>
              <a:ext cx="258840" cy="2458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4884000">
              <a:off x="7725960" y="4038120"/>
              <a:ext cx="380880" cy="34920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4884000">
              <a:off x="7610040" y="4302360"/>
              <a:ext cx="258840" cy="2458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54240" y="4221360"/>
            <a:ext cx="711000" cy="710640"/>
            <a:chOff x="5754240" y="4221360"/>
            <a:chExt cx="711000" cy="710640"/>
          </a:xfrm>
        </p:grpSpPr>
        <p:sp>
          <p:nvSpPr>
            <p:cNvPr id="227" name=""/>
            <p:cNvSpPr/>
            <p:nvPr/>
          </p:nvSpPr>
          <p:spPr>
            <a:xfrm rot="18692400">
              <a:off x="5915160" y="4630320"/>
              <a:ext cx="258840" cy="2458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8692400">
              <a:off x="5820480" y="4304880"/>
              <a:ext cx="380880" cy="34920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8692400">
              <a:off x="6157800" y="4356360"/>
              <a:ext cx="258840" cy="2458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d0d7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05480" y="2033640"/>
            <a:ext cx="3279600" cy="28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33920" y="4927680"/>
            <a:ext cx="3240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Weak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nly a few of the acid molecules have donated the H</a:t>
            </a:r>
            <a:r>
              <a:rPr b="0" lang="en-US" sz="1800" spc="-1" strike="noStrike" baseline="30000">
                <a:solidFill>
                  <a:srgbClr val="80808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to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209376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ydronium ion – anion pair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1480" y="376380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intact acid molecules can you f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21200" y="2984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32360" y="4614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500" fill="hold"/>
                                        <p:tgtEl>
                                          <p:spTgt spid="219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" fill="hold"/>
                                        <p:tgtEl>
                                          <p:spTgt spid="213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entrated versus Dilu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20880" y="2706840"/>
            <a:ext cx="2514240" cy="1692000"/>
            <a:chOff x="920880" y="2706840"/>
            <a:chExt cx="2514240" cy="1692000"/>
          </a:xfrm>
        </p:grpSpPr>
        <p:sp>
          <p:nvSpPr>
            <p:cNvPr id="238" name=""/>
            <p:cNvSpPr/>
            <p:nvPr/>
          </p:nvSpPr>
          <p:spPr>
            <a:xfrm>
              <a:off x="925560" y="2821320"/>
              <a:ext cx="496080" cy="367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d668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20880" y="3079080"/>
              <a:ext cx="501120" cy="453240"/>
            </a:xfrm>
            <a:prstGeom prst="can">
              <a:avLst>
                <a:gd name="adj" fmla="val 25000"/>
              </a:avLst>
            </a:prstGeom>
            <a:solidFill>
              <a:srgbClr val="d66846"/>
            </a:solidFill>
            <a:ln w="9360">
              <a:solidFill>
                <a:srgbClr val="e9ae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6280" y="2706840"/>
              <a:ext cx="1788840" cy="1692000"/>
            </a:xfrm>
            <a:prstGeom prst="wedgeRectCallout">
              <a:avLst>
                <a:gd name="adj1" fmla="val -78189"/>
                <a:gd name="adj2" fmla="val -14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2800" y="2832480"/>
              <a:ext cx="353160" cy="334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8040" y="2982240"/>
              <a:ext cx="353160" cy="334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71920" y="2764800"/>
              <a:ext cx="353160" cy="334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64600" y="3170880"/>
              <a:ext cx="353160" cy="334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06320" y="3411000"/>
              <a:ext cx="353160" cy="334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37080" y="3380760"/>
              <a:ext cx="353160" cy="334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25080" y="3711240"/>
              <a:ext cx="353160" cy="334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76200" y="3862440"/>
              <a:ext cx="353160" cy="334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960" y="3711960"/>
              <a:ext cx="353160" cy="334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93520" y="3696840"/>
              <a:ext cx="352800" cy="33408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78880" y="3141360"/>
              <a:ext cx="353160" cy="334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8240" y="3992040"/>
              <a:ext cx="353160" cy="33408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7640" y="3127680"/>
              <a:ext cx="352800" cy="33408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13360" y="2701800"/>
            <a:ext cx="2514240" cy="1692360"/>
            <a:chOff x="5913360" y="2701800"/>
            <a:chExt cx="2514240" cy="1692360"/>
          </a:xfrm>
        </p:grpSpPr>
        <p:sp>
          <p:nvSpPr>
            <p:cNvPr id="255" name=""/>
            <p:cNvSpPr/>
            <p:nvPr/>
          </p:nvSpPr>
          <p:spPr>
            <a:xfrm>
              <a:off x="5918040" y="2816280"/>
              <a:ext cx="496080" cy="3675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d668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3360" y="3074400"/>
              <a:ext cx="501120" cy="453600"/>
            </a:xfrm>
            <a:prstGeom prst="can">
              <a:avLst>
                <a:gd name="adj" fmla="val 25000"/>
              </a:avLst>
            </a:prstGeom>
            <a:solidFill>
              <a:srgbClr val="d66846"/>
            </a:solidFill>
            <a:ln w="9360">
              <a:solidFill>
                <a:srgbClr val="e9ae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8760" y="2701800"/>
              <a:ext cx="1788840" cy="1692360"/>
            </a:xfrm>
            <a:prstGeom prst="wedgeRectCallout">
              <a:avLst>
                <a:gd name="adj1" fmla="val -78189"/>
                <a:gd name="adj2" fmla="val -14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33560" y="2818440"/>
              <a:ext cx="352800" cy="33408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56480" y="3022560"/>
              <a:ext cx="353160" cy="33408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49880" y="3232440"/>
              <a:ext cx="353160" cy="334080"/>
            </a:xfrm>
            <a:prstGeom prst="ellipse">
              <a:avLst/>
            </a:prstGeom>
            <a:blipFill rotWithShape="0">
              <a:blip r:embed="rId16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2999160"/>
              <a:ext cx="353160" cy="33408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52680" y="3517560"/>
              <a:ext cx="353160" cy="334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4640" y="3976920"/>
              <a:ext cx="353160" cy="33408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59680" y="3564000"/>
              <a:ext cx="353160" cy="334080"/>
            </a:xfrm>
            <a:prstGeom prst="ellipse">
              <a:avLst/>
            </a:prstGeom>
            <a:blipFill rotWithShape="0">
              <a:blip r:embed="rId20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8560" y="3526200"/>
              <a:ext cx="353160" cy="334080"/>
            </a:xfrm>
            <a:prstGeom prst="ellipse">
              <a:avLst/>
            </a:prstGeom>
            <a:blipFill rotWithShape="0">
              <a:blip r:embed="rId21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86480" y="3165840"/>
              <a:ext cx="353160" cy="33408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55840" y="4016880"/>
              <a:ext cx="353160" cy="334080"/>
            </a:xfrm>
            <a:prstGeom prst="ellipse">
              <a:avLst/>
            </a:prstGeom>
            <a:blipFill rotWithShape="0">
              <a:blip r:embed="rId23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34880" y="3152160"/>
              <a:ext cx="353160" cy="334080"/>
            </a:xfrm>
            <a:prstGeom prst="ellipse">
              <a:avLst/>
            </a:prstGeom>
            <a:blipFill rotWithShape="0">
              <a:blip r:embed="rId24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5120" y="3911040"/>
              <a:ext cx="353160" cy="334080"/>
            </a:xfrm>
            <a:prstGeom prst="ellipse">
              <a:avLst/>
            </a:prstGeom>
            <a:blipFill rotWithShape="0">
              <a:blip r:embed="rId25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35720" y="3828240"/>
              <a:ext cx="353160" cy="334080"/>
            </a:xfrm>
            <a:prstGeom prst="ellipse">
              <a:avLst/>
            </a:prstGeom>
            <a:blipFill rotWithShape="0">
              <a:blip r:embed="rId26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1200" y="3580560"/>
              <a:ext cx="353160" cy="334080"/>
            </a:xfrm>
            <a:prstGeom prst="ellipse">
              <a:avLst/>
            </a:prstGeom>
            <a:blipFill rotWithShape="0">
              <a:blip r:embed="rId27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860640" y="1622520"/>
            <a:ext cx="1681200" cy="679320"/>
            <a:chOff x="3860640" y="1622520"/>
            <a:chExt cx="1681200" cy="679320"/>
          </a:xfrm>
        </p:grpSpPr>
        <p:sp>
          <p:nvSpPr>
            <p:cNvPr id="273" name=""/>
            <p:cNvSpPr/>
            <p:nvPr/>
          </p:nvSpPr>
          <p:spPr>
            <a:xfrm>
              <a:off x="3860640" y="1635120"/>
              <a:ext cx="704880" cy="666720"/>
            </a:xfrm>
            <a:prstGeom prst="ellipse">
              <a:avLst/>
            </a:prstGeom>
            <a:blipFill rotWithShape="0">
              <a:blip r:embed="rId28"/>
              <a:srcRect/>
              <a:stretch/>
            </a:blipFill>
            <a:ln w="25560">
              <a:solidFill>
                <a:srgbClr val="f0f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36960" y="1622520"/>
              <a:ext cx="704880" cy="666720"/>
            </a:xfrm>
            <a:prstGeom prst="ellipse">
              <a:avLst/>
            </a:prstGeom>
            <a:blipFill rotWithShape="0">
              <a:blip r:embed="rId29"/>
              <a:srcRect/>
              <a:stretch/>
            </a:blipFill>
            <a:ln w="25560">
              <a:solidFill>
                <a:srgbClr val="f5db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13840" y="1828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39480" y="1760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47880" y="4756320"/>
            <a:ext cx="3249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Low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ot as many solute (what’s being dissolved)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2560" y="4759200"/>
            <a:ext cx="3249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Higher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re solute (what’s being dissolved)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19:36:13Z</dcterms:created>
  <dc:creator>Luke H Deters</dc:creator>
  <dc:description/>
  <dc:language>en-US</dc:language>
  <cp:lastModifiedBy>detersk</cp:lastModifiedBy>
  <dcterms:modified xsi:type="dcterms:W3CDTF">2006-09-25T13:31:57Z</dcterms:modified>
  <cp:revision>13</cp:revision>
  <dc:subject/>
  <dc:title>Chemistry You Need to Know</dc:title>
</cp:coreProperties>
</file>